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9085-BE50-4705-AE8B-8DBA310DC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B89D-D817-44F1-9F2C-BA432FEA3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198F-3A4A-4E18-89A2-1766373E7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CAF3-2D23-4FBF-9F14-A721A20B3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AB282-A2BB-4F23-A654-C04A936B3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825FA-6934-467C-9EA4-A08511C65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80EAD-DB7C-47DA-9780-DB8633C80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1184E-16A0-4D4F-933A-B19EB4087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7D559-A4BA-4455-9925-DFBE7E2DD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15BFB-9CBB-4FE7-984A-872DEA7A2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4744B-E1F4-4300-AF17-EF28F054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D213-D24B-4C44-90A3-29437B1C1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7BB7F-2112-4E47-8D91-F6653D06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11050-A191-441F-866A-F90A8FFD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21C8B-F54A-4474-B7DE-E82D47F03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FDD12-A98B-4DAC-8BEF-24165D934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16654-008C-443F-8549-9EC25BE3C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12A3-A355-471B-AE5B-D88239128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4856-46DB-4127-87F4-B761CA925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D4AD-3356-4204-A733-C7648782A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F8AB-3CD6-44F0-BDB9-A067857F0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9B92-D661-4456-B14E-FF27681C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1027-B83F-4ADF-982C-0F85C97A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646D-9B7E-4EA2-B84C-75F0F5F2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F2EE-D60C-4FE3-A966-47C73EEA69D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043C5-13DE-4EE3-A176-87831DB4FAB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14300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BOX ELDER </a:t>
            </a:r>
            <a:br>
              <a:rPr sz="6000"/>
            </a:b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HIGH SCHOOL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3429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LP Program Overview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b9efee"/>
                </a:solidFill>
                <a:uFillTx/>
                <a:latin typeface="Garamond"/>
              </a:rPr>
              <a:t>ALP levels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Level P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= Pre Emergent. Students at this level are non English Proficient. They are enrolled in 2 ALP class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Level 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= Early Intermediate. Students at this level are Limited English Proficient. They are enrolled in 1 or 2 ALP class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Level I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= Intermediate.  Students at this level are still Limited English Proficient but more advanced. They are enrolled in 1 or 2 ALP class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Level A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= Early Advanced. These students are monitored regularly and receive no or 1 ALP class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Level F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= Advanced. Students at this level are Fully English Proficient. They are mainstreamed and monitored for at least 2 year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Exited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– Former ALP student. Students must pass the English Language Arts CRT to be considered fluent and exited from the ALP program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53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ALP Program Placement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746640"/>
            <a:ext cx="9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 placement is based on a student’s English proficiency level, which is determined by the QIA and UALPA tests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0" y="1295280"/>
          <a:ext cx="9144000" cy="4927680"/>
        </p:xfrm>
        <a:graphic>
          <a:graphicData uri="http://schemas.openxmlformats.org/drawingml/2006/table">
            <a:tbl>
              <a:tblPr/>
              <a:tblGrid>
                <a:gridCol w="762120"/>
                <a:gridCol w="838080"/>
                <a:gridCol w="685800"/>
                <a:gridCol w="685800"/>
                <a:gridCol w="1371600"/>
                <a:gridCol w="1219320"/>
                <a:gridCol w="914400"/>
                <a:gridCol w="1600200"/>
                <a:gridCol w="1066680"/>
              </a:tblGrid>
              <a:tr h="733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Q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cor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ral        Literac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ALP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cor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ral        literac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rea o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nglish Limita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nglish Proficiency Leve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atu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ogra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&amp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lass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ocus of Language Instruc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W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W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r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ad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riting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 Emerg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E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AL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Intensive English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Individual English Instru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IC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W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W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W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W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r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ad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rit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arly Intermedia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E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AL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Sheltered English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Individual English Instru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IC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&amp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AL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W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W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W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r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ad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rit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termedia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E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AL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Sheltered English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Individual English Instru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IC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&amp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AL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W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W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W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ad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rit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arly Advance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E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AL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Individual English Instruction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AL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W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n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dvance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E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in Strea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onito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R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s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W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R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n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xite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onitored  2 year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ormer ALP Stud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R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-90360" y="613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458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-1080"/>
            <a:ext cx="30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Key to Previous sli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685800"/>
            <a:ext cx="0" cy="36576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533520"/>
          <a:ext cx="9144000" cy="6095880"/>
        </p:xfrm>
        <a:graphic>
          <a:graphicData uri="http://schemas.openxmlformats.org/drawingml/2006/table">
            <a:tbl>
              <a:tblPr/>
              <a:tblGrid>
                <a:gridCol w="2286000"/>
                <a:gridCol w="2819520"/>
                <a:gridCol w="4038480"/>
              </a:tblGrid>
              <a:tr h="609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QIA &amp; UALP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O = Or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 = Beginn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I = Early Intermedi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 = Intermedi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A = Early Intermedi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 = Advanc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L = Literacy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Reading &amp; Writing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W = Pre Writ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W = Word Writ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W = Sentence Writ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A = Narrative Writ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W = Advanced Writing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QIA Proficiency Leve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 = Beginn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I = Early Intermedi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  = Intermedi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A = Early Advanc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 = Advanc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UALPA Proficiency Level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 = Pre Emerg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 = Emerg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 = Intermedi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 = Advanc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 = Flu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5105520" y="3279600"/>
            <a:ext cx="4267080" cy="21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ALP lev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evel P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– NEP / 2 ALP class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evel 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– LEP / 2 ALP class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evel I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– LEP / 1-2 ALP class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evel A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– FEP / Monitored 0 or 1 ALP class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evel F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– Out of ALP, monitored for 2 year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Note: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Must pass the English Language Ar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RT to be considered fluen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447920" y="212040"/>
            <a:ext cx="5638680" cy="13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ox Elder High Sch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L/ALP Gradual Exit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752480" y="1600200"/>
          <a:ext cx="5029200" cy="1365120"/>
        </p:xfrm>
        <a:graphic>
          <a:graphicData uri="http://schemas.openxmlformats.org/drawingml/2006/table">
            <a:tbl>
              <a:tblPr/>
              <a:tblGrid>
                <a:gridCol w="50292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     Intensive English Instruction                                             Mike Robinson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    OU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    Sheltered Government (Not currently teaching)               Peter Gerlach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     Individual English Instruction                                           Mike Robins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     OUT     Art, music, P.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1751760" y="3165480"/>
            <a:ext cx="3675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um Proficiency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vel  E &amp; 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752480" y="3352680"/>
          <a:ext cx="5029200" cy="1365480"/>
        </p:xfrm>
        <a:graphic>
          <a:graphicData uri="http://schemas.openxmlformats.org/drawingml/2006/table">
            <a:tbl>
              <a:tblPr/>
              <a:tblGrid>
                <a:gridCol w="50292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    OU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   English (sheltered)                                                            Martha Ew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   Sheltered Government (Not currently teaching)              Peter Gerlach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    Individual English Instruction                                          Mike Robins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    OU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>
            <a:off x="1752120" y="5025960"/>
            <a:ext cx="33778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 Proficiency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vel 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752480" y="5257800"/>
          <a:ext cx="5029200" cy="1365120"/>
        </p:xfrm>
        <a:graphic>
          <a:graphicData uri="http://schemas.openxmlformats.org/drawingml/2006/table">
            <a:tbl>
              <a:tblPr/>
              <a:tblGrid>
                <a:gridCol w="50292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     OU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    OU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    OU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     Individual English Instruction  (if needed)                        Mike Robins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     OU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1752480" y="6675480"/>
            <a:ext cx="1843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1295280"/>
            <a:ext cx="502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Low Proficiency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Level 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Sheltered Courses—Content Are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ition:  An instructional approach that helps LEP students learn content while acquiring Englis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ke the core curriculum accessible to LEP stud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oost English language acquisi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vide a success experience, strengthen self-concept, and ease process of accultur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5T17:24:25Z</dcterms:created>
  <dc:creator>708144</dc:creator>
  <dc:description/>
  <dc:language>en-US</dc:language>
  <cp:lastModifiedBy>Box Elder School District</cp:lastModifiedBy>
  <dcterms:modified xsi:type="dcterms:W3CDTF">2008-12-05T22:36:09Z</dcterms:modified>
  <cp:revision>3</cp:revision>
  <dc:subject/>
  <dc:title>BOX ELDER  HIGH SCHOOL</dc:title>
</cp:coreProperties>
</file>